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AE2-57C8-4C04-A8E2-E157D86B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E33-BA9E-4480-A64E-453DBC97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CA84-03D7-47F6-8F71-F52EC19D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96EB-B78D-4C3F-A040-33D07A2B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FBE1-1694-4ECE-903F-6006F246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F30A-41A1-4598-A9A9-4763EE9B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B0C4-4C9D-48CC-A2D7-069A5CB1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C9A0-55B8-45C6-9566-A3B2E245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403E-D442-4963-9AF7-097F465A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058E-C1A0-4916-A592-4ECF2942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DD6C-A857-4998-8599-3D75BA0C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897-CADD-46F4-974F-AFA40B08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48B2-A731-4B64-9FEA-6FF8C6B7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0BCA-4455-438C-AD4A-189076E3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3F83-89A2-4F77-8572-12D27A59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A2A9-D7EB-4C19-8835-5AF459AD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43FB-23F2-4A2D-90AC-728C08E7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C1D5C-CE27-47C2-9CF8-0455CF70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F7D6A-7AFB-4A5C-946C-68BEB26E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F7A8E-3ED2-4555-B7F9-EDA6856C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1355E-0A2B-42C8-8B88-738DCDB3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EE45E-EA24-45B1-B3D5-6ADBBD95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50A-ADEF-4D40-BC31-43160395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FA8FD-3725-45A7-AD80-8DFA6FD2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23949-FF64-4EB2-9C05-A2BBC4EE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8EA50-370C-4B23-96D0-665932F4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598B4-6E19-4464-83FD-6EA06327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47F16-4E1A-4BE4-A20A-CAA99DCB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B7295-C706-4E7F-9D01-92A50083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0F006-19AD-454E-B3E5-FFF481CF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E0342-C50B-4846-9BBA-BF39CC60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5F1AA-C8EF-4DB2-80C3-03C22D53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C95FB-09DB-453C-8D58-878367AB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1ED-276B-462E-9C10-65E6FC67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CCABB-566F-4973-BFF6-E8ABABFA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99338-7370-474A-BDA5-256E100D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B3CBD-C239-4EF9-B689-21D9B721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F7718-CCDA-4D25-903C-9505BDF5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BD86E-A30D-441F-85F9-9E44C396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62A90-3F60-4BD6-9ADF-000BE8FD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ADF40-416E-4D5C-BE6E-93FB1BEE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1F067-A86A-4E56-9F81-150476EF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47439-431A-4DD8-AFFC-69DC0C33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35C60-F16E-4E5F-82A5-9759B1E1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8FDE-DEB3-4259-9565-A9F05BEC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4FE16-6608-4B1D-818D-DCB3C69F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ABCAF-E969-48FC-9620-0ED8EC7A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14457-5795-428F-A6BD-E71B8F30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537AD-2A82-4B40-A6BB-7F943BF0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6F230-6690-41BF-8324-A1B5A07C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9AAF7-599D-4B16-B669-AB1F978F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1DA2F-88C6-444C-A07E-E12B88BE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DA6E4-FE62-454B-A742-6E9C95F9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0667E-52B8-4274-BF65-6DEEE065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78D83-C577-434B-B009-565AE752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8D3-B772-4650-A547-905F80B1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B1EDB-7504-497E-9F57-43F91D68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AF65-11F5-4713-94FB-ECA9738D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2A0-58E7-4E4B-BC8B-3227A0C0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D60-FC35-4CE7-A52C-55E71223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C693-FF71-4924-862B-082E8F6679F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3764-5A6C-4D6F-9B8C-1D751D89FC7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72C6-B1CC-421F-8D09-1C88FBCF19B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1156-3C4C-475D-991B-3DBCD567B12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DBA0-200D-4111-BE9A-62A81B13A86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hyperlink" Target="http://mofa.gov.gh/site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0" y="152280"/>
            <a:ext cx="91440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Sustainable Intensification of Key Farming Systems in the Sudano-Sahelian Zone of West Afric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N. Karbo, F. K. Avornyo, H. K. Dei, B. Alenyorege, E. Osafo, S. Konlan, A. Fal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SIR-ARI, UDS, ILR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1523880" cy="121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CSIR\Local Settings\Temp\Rar$DI00.406\4221308719_7e861369dc.jpg"/>
          <p:cNvPicPr/>
          <p:nvPr/>
        </p:nvPicPr>
        <p:blipFill>
          <a:blip r:embed="rId2"/>
          <a:stretch/>
        </p:blipFill>
        <p:spPr>
          <a:xfrm>
            <a:off x="685800" y="685800"/>
            <a:ext cx="863640" cy="88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6719132809_d02a581715_b.jpg"/>
          <p:cNvPicPr/>
          <p:nvPr/>
        </p:nvPicPr>
        <p:blipFill>
          <a:blip r:embed="rId3"/>
          <a:stretch/>
        </p:blipFill>
        <p:spPr>
          <a:xfrm>
            <a:off x="7162920" y="380880"/>
            <a:ext cx="971280" cy="1041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University for Development Studies logo - All Ghana Data"/>
          <p:cNvPicPr/>
          <p:nvPr/>
        </p:nvPicPr>
        <p:blipFill>
          <a:blip r:embed="rId4"/>
          <a:stretch/>
        </p:blipFill>
        <p:spPr>
          <a:xfrm>
            <a:off x="5181480" y="457200"/>
            <a:ext cx="1067040" cy="961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http://www.knust.edu.gh/images/content/pics/img27052010_135229.gif"/>
          <p:cNvPicPr/>
          <p:nvPr/>
        </p:nvPicPr>
        <p:blipFill>
          <a:blip r:embed="rId5"/>
          <a:stretch/>
        </p:blipFill>
        <p:spPr>
          <a:xfrm>
            <a:off x="228600" y="5410080"/>
            <a:ext cx="4572000" cy="914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Republic of Ghan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76920" y="5486400"/>
            <a:ext cx="4114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28600" y="685800"/>
            <a:ext cx="8686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Capacity building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implement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mprovement in understanding of crop-livestock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Benefited from biometry trainin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farm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ensitization on protoc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monstration on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228600" y="1066680"/>
            <a:ext cx="8534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studen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monstration on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rop-livestock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228600" y="838080"/>
            <a:ext cx="85345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Dissemin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rmer field visits (75 men and 42 women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eed millers’ visit to project sit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mmunity experience-sharing and learning (120 participant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osters distributed (3,000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228600" y="609480"/>
            <a:ext cx="868680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Challeng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Harmonization gaps of the protocols due to limited  information on socio-cultural setting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ime and area to cover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Managing in the absence of a project vehicl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upport needed by farmers for technology/innovation uptak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How to sustain the process/interventions – farmers are wondering if we will come back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228600" y="1219320"/>
            <a:ext cx="84582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Lesson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eam work contributed greatly to the achievemen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egional teams required monitoring due to peculiarity of data collection - without which project might have fail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228600" y="762120"/>
            <a:ext cx="853452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Element of long term relationship, commitment and trus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Wet season intervention is justified particularly for restrained anima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Land is an issue for intensification  - In UER where crops are failing diversifying into livestock production for integration with crops can improve livelihoo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228600" y="533520"/>
            <a:ext cx="8763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Opportuniti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mmunity members are more receptive and are organizing themselves into group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ome feed formulations were promising and this provides an opportunity for scaling up – development of feed marke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New partnerships formed present an opportunity for future collaborations (internal and external partner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228600" y="1143000"/>
            <a:ext cx="868680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esence of milk groups presents an opportunity for the development of the dairy sector in northern Ghan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vailability of synthesized knowledge for uptake – proceedings, repor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Working as a consortium for future projec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609480" y="685800"/>
            <a:ext cx="762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Perpetu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0" y="762120"/>
            <a:ext cx="914400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Perpetua"/>
              </a:rPr>
              <a:t>ACTIVITIES/OUTPUT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Perpetua"/>
              </a:rPr>
              <a:t>Planning meeting and team form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ore team for coordin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Regional teams for coordin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ommittee on planning for Regional workshop, training cours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Areas for protocol development identifi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6"/>
          <p:cNvSpPr/>
          <p:nvPr/>
        </p:nvSpPr>
        <p:spPr>
          <a:xfrm>
            <a:off x="228600" y="228600"/>
            <a:ext cx="868680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Regional workshop on constraints and opportunities for intensification of integrated crop-livestock system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ceeding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Technologies tested/generated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On-st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lse yam for guinea fowls (8 feed formulation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lse yam fro pigs (9 feed formulations out of which two were promising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C:\Users\DELPHE\Pictures\23-09-2012\DSC00556.JPG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152280" y="152280"/>
            <a:ext cx="883944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On-farm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eed supplementation under wet season management of small ruminants – 1 promising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orghum spent malt for guinea fowls (cheaper feed formulation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Best-bet technologies in milk hygiene and processin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ppropriate pasteurization equipmen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osters on milk hygiene, milk platform, salt wagashi, good wagashi, quesco blanco cheese and yoghur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DSC05820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C:\Users\DELPHE\Pictures\23-09-2012\DSC00570.JPG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Figure 1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wagashibrine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22:14:50Z</dcterms:created>
  <dc:creator>Hp</dc:creator>
  <dc:description/>
  <dc:language>en-US</dc:language>
  <cp:lastModifiedBy>LeBorgne, Ewen (ILRI)</cp:lastModifiedBy>
  <dcterms:modified xsi:type="dcterms:W3CDTF">2012-10-24T12:28:10Z</dcterms:modified>
  <cp:revision>118</cp:revision>
  <dc:subject/>
  <dc:title>Slide 1</dc:title>
</cp:coreProperties>
</file>